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96BB-627A-452E-9147-08C28DB25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my name is Beth Kremer, Health Education Programs Advisor here in Local District 6.  I‘m here to update you on what is happening with our tea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am members are visiting school sites.  When we see bulletin boards or posters, etc. showing evidence of behavioral expectations we are documenting them with a photo.  If you have photos showing evidence of behavioral expectations please send them in.  We will be putting this together in a montage to be shown at next month’s Operation’s Meeting.  If you have photos, please submit to Nancy Robin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id not place an order for incentives or to receive staff development, please do so right away.  We want to be able to serve our schools before the end of the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6874B-2894-4B00-A50E-F5CAEA5EA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BB857-FC14-46D8-97BE-2FDE09DA0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BC09-DB9A-4BE1-B1EF-F7FF9FC9B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7DE8E-9EAB-465B-909D-282E43131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B8D82-65E3-4C4A-B3BE-5D8D0A0E9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7DD4-AC1F-44C0-8412-F53419D26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3C89E-87E1-433B-BC4D-CEA176AD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251B9-983E-45E0-9D52-EF7205633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E84D9-2B96-494D-8137-6DFFEE7F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213D-ABED-444C-A2A9-A429F915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3239C-582A-4AFC-8F57-E720020C8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2F81-AFF4-4DB8-9E47-DA035044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887C-F9D8-45F4-AB3C-A720CD63D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Wide Positive Behavior Suppor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April 16,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 Opportunit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submit photo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re taking photo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Month:  Photo Montage for S-WPBS Strategie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photos to Nancy Robins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nancy.robinson@lausd.n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PBS Fund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Orders were due Wednesday, April 15, 200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id not place an order, please do so AS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5:10:04Z</dcterms:created>
  <dc:creator>beth.kremer</dc:creator>
  <dc:description/>
  <dc:language>en-US</dc:language>
  <cp:lastModifiedBy>beth.kremer</cp:lastModifiedBy>
  <dcterms:modified xsi:type="dcterms:W3CDTF">2009-04-13T17:10:29Z</dcterms:modified>
  <cp:revision>7</cp:revision>
  <dc:subject/>
  <dc:title>School-Wide Positive Behavior Support </dc:title>
</cp:coreProperties>
</file>